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993389"/>
        <c:axId val="80771256"/>
      </c:barChart>
      <c:catAx>
        <c:axId val="269933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771256"/>
        <c:crosses val="autoZero"/>
        <c:auto val="1"/>
        <c:lblAlgn val="ctr"/>
        <c:lblOffset val="100"/>
        <c:noMultiLvlLbl val="0"/>
      </c:catAx>
      <c:valAx>
        <c:axId val="807712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9933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9C63-92CB-4337-B0DB-4090CDAFB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D2A2-E6E4-4DB8-8ED5-EA054720C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3BD7-08A0-4056-A51A-9393B1556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CD2A-C5A3-4071-8AEE-E6DB7A11F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152B-EBA3-4171-884D-F570E08EF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A27D-BFD2-4486-B497-FFA41CDBE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43BE-5225-4334-96EC-633605C63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F8B8-B65E-46FE-A272-6A6DDD086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0D5A-703B-4DE7-8D3F-9E182B970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803A-8A99-4FAC-BEBF-76BDD6FF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C332-5328-4D79-B9CF-E04A019A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C9DF-B5D9-4BDA-AAB3-16ECB8C3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F58BA1-32BF-4296-B30D-AEE17FDA954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